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AD37-54F8-47C5-9B36-D08DC39B0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190F-89F5-4974-929A-6C7DE8BEA4C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C6DF-DC0A-42B2-AA13-AB6B74448E4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6A8D-7E27-4631-BA88-CCB19EBA830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85B5-5C0B-4FE5-B63D-D4647C1D017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FBF6-DC0C-4F08-A9EE-8F75A45E0BC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61FB-4E29-40CF-B90F-5A1F50FBC8C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3993-52BE-4014-8D72-DABC1792C85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BFA4-F875-4C16-A080-1F4510E717C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8A6C-2080-465F-ADDD-0E2BFAF1AFF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28C0-2520-4C5E-A207-4EFEF5A2796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D696-A192-4612-A340-11356DE1EAC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9B36-4338-4687-A21D-C9E82AEC5E9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37D5-AA5E-4E0C-AA1E-5AC6073E670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481C-F05C-457C-9619-BAE533017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041F-2BF6-40B8-95F4-BD317284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D068-FD3A-4E23-AB41-32164CFE9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5F8D-323C-4FB2-A49D-E6C62ACE4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83E74-8CCE-4762-A4C4-2C409292D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FC41-B95B-410D-8A52-FDDA3488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1218-3AF4-42F3-9092-A6A99AF7F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4EEC-CB7C-453A-8980-1B2EEF0D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BA024-50CC-4362-B4FC-0E65DFF7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66C8-78B5-476F-A02E-EA3E589D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D7D2-C9DD-4B8F-B923-711AF788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B7CE-9673-4E70-B0B2-4F4CFC4E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CEA2-4555-4D06-B08F-3577CC89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17F70-79FF-4A4B-B8BA-89598521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21A1-E626-48BE-8D98-50871BC0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CE1E-501D-43F9-8367-2381C1738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50EC1-ACB5-486F-9432-3809B2D9F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46C3-A822-4926-98C8-6F6236A2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37DA-F15C-4E6C-9CE9-AD05C47E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9DBD-78B3-48D1-A772-E509747F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8DF3-681A-448E-B51E-FAFC6EC5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C006-FABA-4618-9795-16D9C406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4781-CBB7-4488-92F1-CF48C7C4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2370-FABA-4588-80DE-F87656FE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9A1B-B29A-4412-9296-82BF584829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3289-258B-442D-8041-46900639F7F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Augmented Reality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ris Bak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 464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ikitude – AR Travel Gu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obile travel guide for the Android platform (open source OS for cell phones)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Plan a trip or find about current surroundings in real-time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Picture 5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"/>
          <p:cNvPicPr/>
          <p:nvPr/>
        </p:nvPicPr>
        <p:blipFill>
          <a:blip r:embed="rId2"/>
          <a:stretch/>
        </p:blipFill>
        <p:spPr>
          <a:xfrm>
            <a:off x="4648320" y="39416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"/>
          <p:cNvPicPr/>
          <p:nvPr/>
        </p:nvPicPr>
        <p:blipFill>
          <a:blip r:embed="rId3"/>
          <a:stretch/>
        </p:blipFill>
        <p:spPr>
          <a:xfrm>
            <a:off x="1447920" y="4191120"/>
            <a:ext cx="1649160" cy="24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ture of A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ilitary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Office of Naval Research has sponsored AR researc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R system could provide troops with vital information about their surrounding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edical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uperimpose an image from an MRI onto a patient’s body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s might allow surgeons to pinpoint a tumor to remov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ducatio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d in labs where students can learn more about the experiments they are participating i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ture of A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Gaming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RQuake is an AR version of the popular game Quak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erson shooter that allows the user to run around in the real world while playing a game in the computer generated worl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ses GPS, a hybrid magnetic and interial orientation sensor, gun controller, and a standard laptop carried in a backpack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continue research in AR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R systems will instantly recognize what someone is looking at, and retrieve and display the data related to that view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re are hundreds of potential applications for such a technology, gaming and entertainment being the most obvious one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y system that gives people instant information, requiring no research on their part, is bound to be a valuable to anyone in any field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Augmented Reality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ugmented realit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R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) is a field of computer research which deals with the combination of real-world and computer-generated dat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st of the AR research is currently concerned with the use of video imagery which is digitally processed and augmented by adding computer-generated graphic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AR?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onald Azuma defines an augmented reality system as one that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bines real and virtual world aspec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s interactive in real-tim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s registered in three dimens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2514600" y="384804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ugmented vs. Virtual Real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ne of the identifying marks of a virtual reality system is the head mounted display worn by user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se displays block out all the external world and present to the wearer a view that is under the complete control of the compute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Augmented Reality, the user must still be aware that he or she is present in the “real world.”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1066680" y="5181480"/>
            <a:ext cx="693432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does AR Work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basic idea of augmented reality is to superimpose graphics, audio and other sense enhancements over a real-world environment in real-tim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graphics will then change to accommodate the user’s eye or head movement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1989000" cy="249552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3048120" y="518148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mulated augmented reality medical image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needed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re are three components needed in order to make an augmented-reality system work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ead-mounted displa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racking syste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bile computing pow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5867280" y="2971800"/>
            <a:ext cx="2857680" cy="3457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"/>
          <p:cNvPicPr/>
          <p:nvPr/>
        </p:nvPicPr>
        <p:blipFill>
          <a:blip r:embed="rId2"/>
          <a:stretch/>
        </p:blipFill>
        <p:spPr>
          <a:xfrm>
            <a:off x="609480" y="3895560"/>
            <a:ext cx="381024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urrent Uses of A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Yellow first down line used on TV broadcasts of football game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Real world elements: football field and playe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Virtual element: the yellow line drawn over the image by computers in real-tim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3" name="Picture 13" descr=""/>
          <p:cNvPicPr/>
          <p:nvPr/>
        </p:nvPicPr>
        <p:blipFill>
          <a:blip r:embed="rId1"/>
          <a:stretch/>
        </p:blipFill>
        <p:spPr>
          <a:xfrm>
            <a:off x="4724280" y="2362320"/>
            <a:ext cx="411480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urrent Uses of A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UD (Head Up Display)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Used in commercial aircraft, automobiles, and other application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Presents data without requiring the user to look away from his or her usual viewpoi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Picture 5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96252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feClipp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ifeClipper is a wearable AR system being used in Switzerlan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en walking around a chosen culturally interesting area, the user will feel as though they are watching a film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"/>
          <p:cNvPicPr/>
          <p:nvPr/>
        </p:nvPicPr>
        <p:blipFill>
          <a:blip r:embed="rId2"/>
          <a:stretch/>
        </p:blipFill>
        <p:spPr>
          <a:xfrm>
            <a:off x="4267080" y="4114800"/>
            <a:ext cx="472464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26:50Z</dcterms:created>
  <dc:creator>Chris Baker</dc:creator>
  <dc:description/>
  <dc:language>en-US</dc:language>
  <cp:lastModifiedBy>SEALSCD</cp:lastModifiedBy>
  <dcterms:modified xsi:type="dcterms:W3CDTF">2008-11-18T16:41:29Z</dcterms:modified>
  <cp:revision>34</cp:revision>
  <dc:subject/>
  <dc:title>Augmented Reality</dc:title>
</cp:coreProperties>
</file>